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TYPE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33D-A28C-4607-A1DF-4442C141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FA2-402D-4182-973D-21623AC5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665-27D0-4912-9784-E15E8375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984D-AEA7-474F-A5C3-8D989441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ACC-CCF0-4C76-B524-DA3610BE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DD3-AA17-45DF-8E3A-8FFAA1BB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C277-61A5-4123-9949-30441BE2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B58-3872-4645-A29F-DBA8D912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4678-8BA8-4CA0-84C1-D84D8E58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293-CB83-4774-8059-2FCA577B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CB0B-168F-4E71-B848-5EBAAA79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C77-B094-4D86-AFED-CD449EC5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0"/>
            <a:ext cx="2438280" cy="22860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438280" y="0"/>
            <a:ext cx="67042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77720" y="6091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440080" y="66279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629400"/>
            <a:ext cx="2438280" cy="227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40080" y="66261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5333760" y="66276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164D-1E4D-46C7-8699-C3B08B2D6460}" type="datetime3">
              <a:rPr b="0" lang="en-US" sz="1000" spc="-1" strike="noStrike">
                <a:solidFill>
                  <a:srgbClr val="ff0033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2438280" y="662760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238880" y="66276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63BD-6F52-461D-8A49-3DC3097F5EA9}" type="slidenum">
              <a:rPr b="0" lang="en-US" sz="1000" spc="-1" strike="noStrike">
                <a:solidFill>
                  <a:srgbClr val="ff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1866960" y="66657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00360" y="664200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04920" y="66675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3840" y="663732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423720" y="6657840"/>
            <a:ext cx="795600" cy="18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1262160" y="6659640"/>
            <a:ext cx="669960" cy="180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(Resonant) Photoemission and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32766" t="0" r="0" b="0"/>
          <a:stretch/>
        </p:blipFill>
        <p:spPr>
          <a:xfrm>
            <a:off x="0" y="609480"/>
            <a:ext cx="4162320" cy="5686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657600" y="609480"/>
            <a:ext cx="548640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p-XPS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s-XPS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p3s3s-Res. A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1/r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p3d3d-Res. A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1/r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sonant photoe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8ni2xps3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676520"/>
            <a:ext cx="11430000" cy="44744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         14    0    4    0    4 SHELL30000000 SPIN30000000 INTE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4 1 14 1 10         00      9 00000000 0 8065.4790 .00       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08  P05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D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D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09  P05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D0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D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Ni3+P5D8           8  862.3000   14.0221    8.7641   00.1122   11.5062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8.3503    6.3324    3.60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Ni3+P5D9L          6  862.3000   00.1022   11.5072    7.7213    5.7874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3.29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900     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         14    0    4    0    4 SHELL30000000 SPIN30000000 INTE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4 1 14 1 10         00      9 00000000 0 8065.4790 .00      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09  P05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D09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D0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10  P05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D0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D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Ni3+P5D9L          6  862.3000   00.1022   11.5072    7.7213    5.7874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3.29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Ni3+P5D10L2        2  862.3000   11.5092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99999999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8ni2xps3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676520"/>
            <a:ext cx="11430000" cy="47574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CONF 3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2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3 1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ef EG1 =  0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ef EF1 =  0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ef EG2 =  3.5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ef EF2 =  -5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ef EG3 =  14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ef EF3 =  -3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XMIX 4    3. 3. 1.5 1.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2   1 1 2   1 2 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XMIX 4    3. 3. 1.5 1.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2   2 1 2   2 2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XHAM 4  1.0 1.0 0.0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6   1 1   1 2   1 3   2 1   2 2   2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RAN  3    1 1    2 2    3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RI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8ni23sxps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676520"/>
            <a:ext cx="11430000" cy="22885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         14    0    4    0    4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INTER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shell03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4 1 14 1 10         00      9 00000000   8065.4780 .00     0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S01  D09  </a:t>
            </a:r>
            <a:r>
              <a:rPr b="1" lang="en-US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D09  P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01  D10  D08  P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3s1 3d9 p     3  110.0000     .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0852   12.880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3s1 3d10p     1  110.0000     .0000   00.0004     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99999999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3s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459320"/>
            <a:ext cx="91440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MS Mincho"/>
              </a:rPr>
              <a:t>S01  D09  </a:t>
            </a:r>
            <a:r>
              <a:rPr b="1" lang="en-US" sz="2800" spc="-1" strike="noStrike">
                <a:solidFill>
                  <a:srgbClr val="00cc00"/>
                </a:solidFill>
                <a:latin typeface="Courier New"/>
                <a:ea typeface="MS Mincho"/>
              </a:rPr>
              <a:t>D09  P01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MS Mincho"/>
              </a:rPr>
              <a:t>= 3s</a:t>
            </a:r>
            <a:r>
              <a:rPr b="1" lang="en-US" sz="2800" spc="-1" strike="noStrike" baseline="30000">
                <a:solidFill>
                  <a:srgbClr val="0000ff"/>
                </a:solidFill>
                <a:latin typeface="Courier New"/>
                <a:ea typeface="MS Mincho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MS Mincho"/>
              </a:rPr>
              <a:t> 3d</a:t>
            </a:r>
            <a:r>
              <a:rPr b="1" lang="en-US" sz="2800" spc="-1" strike="noStrike" baseline="30000">
                <a:solidFill>
                  <a:srgbClr val="0000ff"/>
                </a:solidFill>
                <a:latin typeface="Courier New"/>
                <a:ea typeface="MS Mincho"/>
              </a:rPr>
              <a:t>9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urier New"/>
                <a:ea typeface="MS Mincho"/>
              </a:rPr>
              <a:t>L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 baseline="-25000">
                <a:solidFill>
                  <a:srgbClr val="0000ff"/>
                </a:solidFill>
                <a:latin typeface="Verdana"/>
                <a:ea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7156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434880"/>
            <a:ext cx="9144000" cy="5956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353400" y="83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MS Mincho"/>
              </a:rPr>
              <a:t>T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1520" y="374508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No mi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3120" y="373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MS Mincho"/>
              </a:rPr>
              <a:t>T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49440" y="76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MS Mincho"/>
              </a:rPr>
              <a:t>T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27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77156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and 3s X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33280" y="358128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2pX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13480" y="53352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3sX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2040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b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90240" y="34290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b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5729" t="0" r="4583" b="0"/>
          <a:stretch/>
        </p:blipFill>
        <p:spPr>
          <a:xfrm>
            <a:off x="0" y="685800"/>
            <a:ext cx="9144000" cy="4124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962680" y="5257800"/>
            <a:ext cx="29606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J. Phys. Soc. Ja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61, 449 (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50413" t="16994" r="26352" b="19826"/>
          <a:stretch/>
        </p:blipFill>
        <p:spPr>
          <a:xfrm>
            <a:off x="533520" y="533520"/>
            <a:ext cx="5330880" cy="5849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962680" y="5257800"/>
            <a:ext cx="29606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J. Phys. Soc. Ja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61, 449 (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6705720" cy="5342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499080" y="5257800"/>
            <a:ext cx="23324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hys. Rev.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59, 3195 (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685800"/>
            <a:ext cx="9143280" cy="5715000"/>
            <a:chOff x="0" y="685800"/>
            <a:chExt cx="9143280" cy="5715000"/>
          </a:xfrm>
        </p:grpSpPr>
        <p:grpSp>
          <p:nvGrpSpPr>
            <p:cNvPr id="197" name=""/>
            <p:cNvGrpSpPr/>
            <p:nvPr/>
          </p:nvGrpSpPr>
          <p:grpSpPr>
            <a:xfrm>
              <a:off x="9360" y="689760"/>
              <a:ext cx="9123120" cy="5706000"/>
              <a:chOff x="9360" y="689760"/>
              <a:chExt cx="9123120" cy="570600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9360" y="689760"/>
                <a:ext cx="2457000" cy="695880"/>
                <a:chOff x="9360" y="689760"/>
                <a:chExt cx="2457000" cy="6958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47600" y="689760"/>
                  <a:ext cx="21801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9360" y="689760"/>
                  <a:ext cx="24570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2467080" y="689760"/>
                <a:ext cx="2869200" cy="695880"/>
                <a:chOff x="2467080" y="689760"/>
                <a:chExt cx="2869200" cy="6958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605320" y="689760"/>
                  <a:ext cx="25923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all electrons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467080" y="689760"/>
                  <a:ext cx="28692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337360" y="689760"/>
                <a:ext cx="2128680" cy="695880"/>
                <a:chOff x="5337360" y="689760"/>
                <a:chExt cx="2128680" cy="6958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474880" y="689760"/>
                  <a:ext cx="18525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partly filled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337360" y="689760"/>
                  <a:ext cx="212868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7467120" y="689760"/>
                <a:ext cx="1665360" cy="695880"/>
                <a:chOff x="7467120" y="689760"/>
                <a:chExt cx="1665360" cy="6958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04640" y="689760"/>
                  <a:ext cx="138924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direct XPS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67120" y="689760"/>
                  <a:ext cx="166536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9360" y="1385640"/>
                <a:ext cx="2457000" cy="556560"/>
                <a:chOff x="9360" y="1385640"/>
                <a:chExt cx="2457000" cy="5565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47600" y="1385640"/>
                  <a:ext cx="21801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ground state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9360" y="1385640"/>
                  <a:ext cx="24570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2467080" y="1385640"/>
                <a:ext cx="2869200" cy="556560"/>
                <a:chOff x="2467080" y="1385640"/>
                <a:chExt cx="2869200" cy="5565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2605320" y="1385640"/>
                  <a:ext cx="25923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8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467080" y="1385640"/>
                  <a:ext cx="28692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5337360" y="1385640"/>
                <a:ext cx="2128680" cy="556560"/>
                <a:chOff x="5337360" y="1385640"/>
                <a:chExt cx="2128680" cy="5565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5474880" y="1385640"/>
                  <a:ext cx="18525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8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7360" y="1385640"/>
                  <a:ext cx="212868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7467120" y="1385640"/>
                <a:ext cx="1665360" cy="556560"/>
                <a:chOff x="7467120" y="1385640"/>
                <a:chExt cx="1665360" cy="5565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7604640" y="1385640"/>
                  <a:ext cx="138924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-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467120" y="1385640"/>
                  <a:ext cx="166536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9360" y="1942200"/>
                <a:ext cx="2457000" cy="695880"/>
                <a:chOff x="9360" y="1942200"/>
                <a:chExt cx="2457000" cy="6958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47600" y="1942200"/>
                  <a:ext cx="21801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 core hole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(resonant)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9360" y="1942200"/>
                  <a:ext cx="24570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2467080" y="1942200"/>
                <a:ext cx="2869200" cy="695880"/>
                <a:chOff x="2467080" y="1942200"/>
                <a:chExt cx="2869200" cy="6958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2605320" y="1942200"/>
                  <a:ext cx="25923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5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9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467080" y="1942200"/>
                  <a:ext cx="28692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337360" y="1942200"/>
                <a:ext cx="2128680" cy="695880"/>
                <a:chOff x="5337360" y="1942200"/>
                <a:chExt cx="2128680" cy="6958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474880" y="1942200"/>
                  <a:ext cx="18525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5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9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337360" y="1942200"/>
                  <a:ext cx="212868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7467120" y="1942200"/>
                <a:ext cx="1665360" cy="695880"/>
                <a:chOff x="7467120" y="1942200"/>
                <a:chExt cx="1665360" cy="6958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604640" y="1942200"/>
                  <a:ext cx="138924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-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67120" y="1942200"/>
                  <a:ext cx="166536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9360" y="2638080"/>
                <a:ext cx="2457000" cy="556560"/>
                <a:chOff x="9360" y="2638080"/>
                <a:chExt cx="2457000" cy="5565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47600" y="2638080"/>
                  <a:ext cx="21801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2p3s3s Aug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9360" y="2638080"/>
                  <a:ext cx="24570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467080" y="2638080"/>
                <a:ext cx="2869200" cy="556560"/>
                <a:chOff x="2467080" y="2638080"/>
                <a:chExt cx="2869200" cy="5565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605320" y="2638080"/>
                  <a:ext cx="25923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0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9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+ 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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467080" y="2638080"/>
                  <a:ext cx="28692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337360" y="2638080"/>
                <a:ext cx="2128680" cy="556560"/>
                <a:chOff x="5337360" y="2638080"/>
                <a:chExt cx="2128680" cy="5565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474880" y="2638080"/>
                  <a:ext cx="18525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(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0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) 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9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337360" y="2638080"/>
                  <a:ext cx="212868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7467120" y="2638080"/>
                <a:ext cx="1665360" cy="556560"/>
                <a:chOff x="7467120" y="2638080"/>
                <a:chExt cx="1665360" cy="5565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604640" y="2638080"/>
                  <a:ext cx="138924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n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467120" y="2638080"/>
                  <a:ext cx="166536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9360" y="3194640"/>
                <a:ext cx="2457000" cy="556560"/>
                <a:chOff x="9360" y="3194640"/>
                <a:chExt cx="2457000" cy="5565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47600" y="3194640"/>
                  <a:ext cx="21801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2p3s3p Aug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9360" y="3194640"/>
                  <a:ext cx="24570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467080" y="3194640"/>
                <a:ext cx="2869200" cy="556560"/>
                <a:chOff x="2467080" y="3194640"/>
                <a:chExt cx="2869200" cy="5565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605320" y="3194640"/>
                  <a:ext cx="25923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1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5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9 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+ 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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467080" y="3194640"/>
                  <a:ext cx="28692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337360" y="3194640"/>
                <a:ext cx="2128680" cy="556560"/>
                <a:chOff x="5337360" y="3194640"/>
                <a:chExt cx="2128680" cy="5565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474880" y="3194640"/>
                  <a:ext cx="18525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1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5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9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337360" y="3194640"/>
                  <a:ext cx="212868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7467120" y="3194640"/>
                <a:ext cx="1665360" cy="556560"/>
                <a:chOff x="7467120" y="3194640"/>
                <a:chExt cx="1665360" cy="5565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604640" y="3194640"/>
                  <a:ext cx="138924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n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67120" y="3194640"/>
                  <a:ext cx="166536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9360" y="3751200"/>
                <a:ext cx="2457000" cy="695880"/>
                <a:chOff x="9360" y="3751200"/>
                <a:chExt cx="2457000" cy="6958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47600" y="3751200"/>
                  <a:ext cx="21801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2p3p3p Aug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9360" y="3751200"/>
                  <a:ext cx="24570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2467080" y="3751200"/>
                <a:ext cx="2869200" cy="695880"/>
                <a:chOff x="2467080" y="3751200"/>
                <a:chExt cx="2869200" cy="6958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605320" y="3751200"/>
                  <a:ext cx="25923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2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4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9 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+ 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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467080" y="3751200"/>
                  <a:ext cx="28692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5337360" y="3751200"/>
                <a:ext cx="2128680" cy="695880"/>
                <a:chOff x="5337360" y="3751200"/>
                <a:chExt cx="2128680" cy="6958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5474880" y="3751200"/>
                  <a:ext cx="18525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4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9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337360" y="3751200"/>
                  <a:ext cx="212868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467120" y="3751200"/>
                <a:ext cx="1665360" cy="695880"/>
                <a:chOff x="7467120" y="3751200"/>
                <a:chExt cx="1665360" cy="69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604640" y="3751200"/>
                  <a:ext cx="138924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n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467120" y="3751200"/>
                  <a:ext cx="166536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9360" y="4447440"/>
                <a:ext cx="2457000" cy="556560"/>
                <a:chOff x="9360" y="4447440"/>
                <a:chExt cx="2457000" cy="5565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47600" y="4447440"/>
                  <a:ext cx="21801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3s3d Aug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360" y="4447440"/>
                  <a:ext cx="24570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467080" y="4447440"/>
                <a:ext cx="2869200" cy="556560"/>
                <a:chOff x="2467080" y="4447440"/>
                <a:chExt cx="2869200" cy="5565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605320" y="4447440"/>
                  <a:ext cx="25923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1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8 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+ 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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67080" y="4447440"/>
                  <a:ext cx="28692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337360" y="4447440"/>
                <a:ext cx="2128680" cy="556560"/>
                <a:chOff x="5337360" y="4447440"/>
                <a:chExt cx="2128680" cy="5565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474880" y="4447440"/>
                  <a:ext cx="18525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1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8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337360" y="4447440"/>
                  <a:ext cx="212868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467120" y="4447440"/>
                <a:ext cx="1665360" cy="556560"/>
                <a:chOff x="7467120" y="4447440"/>
                <a:chExt cx="1665360" cy="5565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604640" y="4447440"/>
                  <a:ext cx="138924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 XPS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467120" y="4447440"/>
                  <a:ext cx="166536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9360" y="5004000"/>
                <a:ext cx="2457000" cy="695880"/>
                <a:chOff x="9360" y="5004000"/>
                <a:chExt cx="2457000" cy="6958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47600" y="5004000"/>
                  <a:ext cx="21801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3p3d Aug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9360" y="5004000"/>
                  <a:ext cx="24570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467080" y="5004000"/>
                <a:ext cx="2869200" cy="695880"/>
                <a:chOff x="2467080" y="5004000"/>
                <a:chExt cx="2869200" cy="6958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605320" y="5004000"/>
                  <a:ext cx="25923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5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8 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+ 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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467080" y="5004000"/>
                  <a:ext cx="28692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337360" y="5004000"/>
                <a:ext cx="2128680" cy="695880"/>
                <a:chOff x="5337360" y="5004000"/>
                <a:chExt cx="2128680" cy="6958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474880" y="5004000"/>
                  <a:ext cx="18525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5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8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337360" y="5004000"/>
                  <a:ext cx="212868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7467120" y="5004000"/>
                <a:ext cx="1665360" cy="695880"/>
                <a:chOff x="7467120" y="5004000"/>
                <a:chExt cx="1665360" cy="695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7604640" y="5004000"/>
                  <a:ext cx="138924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 XPS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467120" y="5004000"/>
                  <a:ext cx="166536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9360" y="5699880"/>
                <a:ext cx="2457000" cy="695880"/>
                <a:chOff x="9360" y="5699880"/>
                <a:chExt cx="2457000" cy="695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147600" y="5699880"/>
                  <a:ext cx="21801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3d3d Aug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9360" y="5699880"/>
                  <a:ext cx="24570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2467080" y="5699880"/>
                <a:ext cx="2869200" cy="695880"/>
                <a:chOff x="2467080" y="5699880"/>
                <a:chExt cx="2869200" cy="695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2605320" y="5699880"/>
                  <a:ext cx="25923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7 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+ 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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467080" y="5699880"/>
                  <a:ext cx="28692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5337360" y="5699880"/>
                <a:ext cx="2128680" cy="695880"/>
                <a:chOff x="5337360" y="5699880"/>
                <a:chExt cx="2128680" cy="695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474880" y="5699880"/>
                  <a:ext cx="18525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7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337360" y="5699880"/>
                  <a:ext cx="212868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7467120" y="5699880"/>
                <a:ext cx="1665360" cy="695880"/>
                <a:chOff x="7467120" y="5699880"/>
                <a:chExt cx="1665360" cy="695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604640" y="5699880"/>
                  <a:ext cx="138924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 XPS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467120" y="5699880"/>
                  <a:ext cx="166536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0" y="685800"/>
              <a:ext cx="9143280" cy="5715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Resonant Photoemission and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-ray absor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380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365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and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7156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2666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2362320"/>
            <a:ext cx="2895480" cy="1981080"/>
          </a:xfrm>
          <a:prstGeom prst="rect">
            <a:avLst/>
          </a:prstGeom>
          <a:solidFill>
            <a:srgbClr val="ff0000">
              <a:alpha val="50000"/>
            </a:srgbClr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-ray absor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47920" y="380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09680" y="1600200"/>
            <a:ext cx="0" cy="914400"/>
          </a:xfrm>
          <a:prstGeom prst="line">
            <a:avLst/>
          </a:prstGeom>
          <a:ln cap="sq"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77156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2666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362320"/>
            <a:ext cx="2895480" cy="1981080"/>
          </a:xfrm>
          <a:prstGeom prst="rect">
            <a:avLst/>
          </a:prstGeom>
          <a:solidFill>
            <a:srgbClr val="ff0000">
              <a:alpha val="50000"/>
            </a:srgbClr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80880"/>
            <a:ext cx="2895480" cy="1981440"/>
          </a:xfrm>
          <a:prstGeom prst="rect">
            <a:avLst/>
          </a:prstGeom>
          <a:solidFill>
            <a:srgbClr val="0066ff">
              <a:alpha val="50000"/>
            </a:srgbClr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-ray absor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47920" y="380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62520" y="1905120"/>
            <a:ext cx="0" cy="91440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09680" y="1600200"/>
            <a:ext cx="0" cy="914400"/>
          </a:xfrm>
          <a:prstGeom prst="line">
            <a:avLst/>
          </a:prstGeom>
          <a:ln cap="sq"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77156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43200" y="2666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2362320"/>
            <a:ext cx="2895480" cy="1981080"/>
          </a:xfrm>
          <a:prstGeom prst="rect">
            <a:avLst/>
          </a:prstGeom>
          <a:solidFill>
            <a:srgbClr val="ff0000">
              <a:alpha val="50000"/>
            </a:srgbClr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80880"/>
            <a:ext cx="2895480" cy="1981440"/>
          </a:xfrm>
          <a:prstGeom prst="rect">
            <a:avLst/>
          </a:prstGeom>
          <a:solidFill>
            <a:srgbClr val="0066ff">
              <a:alpha val="50000"/>
            </a:srgbClr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4419720"/>
            <a:ext cx="2895840" cy="1981080"/>
          </a:xfrm>
          <a:prstGeom prst="rect">
            <a:avLst/>
          </a:prstGeom>
          <a:solidFill>
            <a:srgbClr val="00ff00">
              <a:alpha val="50000"/>
            </a:srgbClr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-ray absor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47920" y="380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3276720"/>
            <a:ext cx="0" cy="914400"/>
          </a:xfrm>
          <a:prstGeom prst="line">
            <a:avLst/>
          </a:prstGeom>
          <a:ln cap="sq"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62520" y="1905120"/>
            <a:ext cx="0" cy="91440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9680" y="1600200"/>
            <a:ext cx="0" cy="914400"/>
          </a:xfrm>
          <a:prstGeom prst="line">
            <a:avLst/>
          </a:prstGeom>
          <a:ln cap="sq"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7156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3200" y="2666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2362320"/>
            <a:ext cx="2895480" cy="1981080"/>
          </a:xfrm>
          <a:prstGeom prst="rect">
            <a:avLst/>
          </a:prstGeom>
          <a:solidFill>
            <a:srgbClr val="ff0000">
              <a:alpha val="50000"/>
            </a:srgbClr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80880"/>
            <a:ext cx="2895480" cy="1981440"/>
          </a:xfrm>
          <a:prstGeom prst="rect">
            <a:avLst/>
          </a:prstGeom>
          <a:solidFill>
            <a:srgbClr val="0066ff">
              <a:alpha val="50000"/>
            </a:srgbClr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4419720"/>
            <a:ext cx="2895840" cy="1981080"/>
          </a:xfrm>
          <a:prstGeom prst="rect">
            <a:avLst/>
          </a:prstGeom>
          <a:solidFill>
            <a:srgbClr val="00ff00">
              <a:alpha val="50000"/>
            </a:srgbClr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380880"/>
            <a:ext cx="2895840" cy="1981440"/>
          </a:xfrm>
          <a:prstGeom prst="rect">
            <a:avLst/>
          </a:prstGeom>
          <a:solidFill>
            <a:srgbClr val="800080">
              <a:alpha val="50000"/>
            </a:srgbClr>
          </a:solidFill>
          <a:ln cap="sq"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9pssp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1676520"/>
            <a:ext cx="11430000" cy="31114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0    0   14    0    0    1    1  SPIN00000000 SHELL00000000 INTE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8065.47800     0000000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4 1 14 2-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00      9 00000000 0 8065.4790 .00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2  D 8  P 0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 5  S 2  D 9  P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 6  S 0  D 9  P 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3d8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2p5 3d9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3s0 3d9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5 3d09  -s0 3d9 p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9999999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9pssp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676520"/>
            <a:ext cx="11430000" cy="43916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0    0   14    4    4    0    4  SPIN00000000 SHELL00300000 INTER3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8065.47800     0000000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5 2-15 2-10         00      9 00000000 0 8065.4790 .00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 5  S 2  D 9  D10  p 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 6  S 0  D 9  D10  p 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 5  S 2  D10  D 9  p 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 6  S 0  D10  D 9  p 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2p5 3d09      6     .0000   11.5072     .0002    7.7213    5.787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3.29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s0 3d9 p     6 1000.0000     .0942     .0002     .0003     .000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5 3d09  -s0 3d9 p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MS Mincho"/>
              </a:rPr>
              <a:t>1    .19665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.00005    .00005    .00005    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i2+ 2p5 3d10      2    0.0000   11.5092     .0000     .0000     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i2+ 3s0 3d10p     2 1000.0000     .0002     .0000     .0000     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5 3d10  -s0 3d10p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1    .19275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.00005    .00005    .00005    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99999999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. Auger (2 conf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533520"/>
            <a:ext cx="9144000" cy="5829120"/>
            <a:chOff x="0" y="533520"/>
            <a:chExt cx="9144000" cy="5829120"/>
          </a:xfrm>
        </p:grpSpPr>
        <p:grpSp>
          <p:nvGrpSpPr>
            <p:cNvPr id="372" name=""/>
            <p:cNvGrpSpPr/>
            <p:nvPr/>
          </p:nvGrpSpPr>
          <p:grpSpPr>
            <a:xfrm>
              <a:off x="0" y="533520"/>
              <a:ext cx="9144000" cy="5829120"/>
              <a:chOff x="0" y="533520"/>
              <a:chExt cx="9144000" cy="582912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533520"/>
                <a:ext cx="9144000" cy="5829120"/>
              </a:xfrm>
              <a:prstGeom prst="rect">
                <a:avLst/>
              </a:prstGeom>
              <a:solidFill>
                <a:srgbClr val="eaeaea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31520" y="1323360"/>
                <a:ext cx="2011320" cy="45108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1520" y="4933440"/>
                <a:ext cx="2011320" cy="45108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9</a:t>
                </a:r>
                <a:r>
                  <a:rPr b="1" lang="en-US" sz="2000" spc="-1" strike="noStrike" u="sng">
                    <a:solidFill>
                      <a:srgbClr val="0000ff"/>
                    </a:solidFill>
                    <a:uFillTx/>
                    <a:latin typeface="Verdana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095880" y="909360"/>
                <a:ext cx="2194560" cy="131616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2p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5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A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s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0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9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291840" y="1323360"/>
                <a:ext cx="2559960" cy="451080"/>
              </a:xfrm>
              <a:custGeom>
                <a:avLst/>
                <a:gdLst>
                  <a:gd name="textAreaLeft" fmla="*/ 0 w 2559960"/>
                  <a:gd name="textAreaRight" fmla="*/ 2560320 w 255996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ffcc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dipo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108960" y="4933440"/>
                <a:ext cx="2559960" cy="451080"/>
              </a:xfrm>
              <a:custGeom>
                <a:avLst/>
                <a:gdLst>
                  <a:gd name="textAreaLeft" fmla="*/ 0 w 2559960"/>
                  <a:gd name="textAreaRight" fmla="*/ 2560320 w 255996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ffcc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dipo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09480" y="1887120"/>
                <a:ext cx="2194560" cy="2820600"/>
              </a:xfrm>
              <a:custGeom>
                <a:avLst/>
                <a:gdLst>
                  <a:gd name="textAreaLeft" fmla="*/ 0 w 2194560"/>
                  <a:gd name="textAreaRight" fmla="*/ 2194920 w 2194560"/>
                  <a:gd name="textAreaTop" fmla="*/ 704880 h 2820600"/>
                  <a:gd name="textAreaBottom" fmla="*/ 2115720 h 282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8100" y="16200"/>
                    </a:lnTo>
                    <a:lnTo>
                      <a:pt x="8100" y="18900"/>
                    </a:lnTo>
                    <a:lnTo>
                      <a:pt x="5500" y="18900"/>
                    </a:lnTo>
                    <a:lnTo>
                      <a:pt x="10800" y="21600"/>
                    </a:lnTo>
                    <a:lnTo>
                      <a:pt x="16100" y="18900"/>
                    </a:lnTo>
                    <a:lnTo>
                      <a:pt x="13500" y="18900"/>
                    </a:lnTo>
                    <a:lnTo>
                      <a:pt x="13500" y="16200"/>
                    </a:lnTo>
                    <a:lnTo>
                      <a:pt x="21600" y="16200"/>
                    </a:lnTo>
                    <a:lnTo>
                      <a:pt x="21600" y="5400"/>
                    </a:lnTo>
                    <a:lnTo>
                      <a:pt x="13500" y="5400"/>
                    </a:lnTo>
                    <a:lnTo>
                      <a:pt x="13500" y="2700"/>
                    </a:lnTo>
                    <a:lnTo>
                      <a:pt x="16100" y="2700"/>
                    </a:lnTo>
                    <a:lnTo>
                      <a:pt x="10800" y="0"/>
                    </a:lnTo>
                    <a:lnTo>
                      <a:pt x="5500" y="2700"/>
                    </a:lnTo>
                    <a:lnTo>
                      <a:pt x="8100" y="2700"/>
                    </a:lnTo>
                    <a:lnTo>
                      <a:pt x="8100" y="5400"/>
                    </a:lnTo>
                    <a:close/>
                  </a:path>
                </a:pathLst>
              </a:custGeom>
              <a:solidFill>
                <a:srgbClr val="ccffff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Mixing 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52160" y="2451240"/>
                <a:ext cx="2194560" cy="1579320"/>
              </a:xfrm>
              <a:custGeom>
                <a:avLst/>
                <a:gdLst>
                  <a:gd name="textAreaLeft" fmla="*/ 0 w 2194560"/>
                  <a:gd name="textAreaRight" fmla="*/ 2194920 w 2194560"/>
                  <a:gd name="textAreaTop" fmla="*/ 394920 h 1579320"/>
                  <a:gd name="textAreaBottom" fmla="*/ 1184760 h 157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8100" y="16200"/>
                    </a:lnTo>
                    <a:lnTo>
                      <a:pt x="8100" y="18900"/>
                    </a:lnTo>
                    <a:lnTo>
                      <a:pt x="5500" y="18900"/>
                    </a:lnTo>
                    <a:lnTo>
                      <a:pt x="10800" y="21600"/>
                    </a:lnTo>
                    <a:lnTo>
                      <a:pt x="16100" y="18900"/>
                    </a:lnTo>
                    <a:lnTo>
                      <a:pt x="13500" y="18900"/>
                    </a:lnTo>
                    <a:lnTo>
                      <a:pt x="13500" y="16200"/>
                    </a:lnTo>
                    <a:lnTo>
                      <a:pt x="21600" y="16200"/>
                    </a:lnTo>
                    <a:lnTo>
                      <a:pt x="21600" y="5400"/>
                    </a:lnTo>
                    <a:lnTo>
                      <a:pt x="13500" y="5400"/>
                    </a:lnTo>
                    <a:lnTo>
                      <a:pt x="13500" y="2700"/>
                    </a:lnTo>
                    <a:lnTo>
                      <a:pt x="16100" y="2700"/>
                    </a:lnTo>
                    <a:lnTo>
                      <a:pt x="10800" y="0"/>
                    </a:lnTo>
                    <a:lnTo>
                      <a:pt x="5500" y="2700"/>
                    </a:lnTo>
                    <a:lnTo>
                      <a:pt x="8100" y="2700"/>
                    </a:lnTo>
                    <a:lnTo>
                      <a:pt x="8100" y="5400"/>
                    </a:lnTo>
                    <a:close/>
                  </a:path>
                </a:pathLst>
              </a:custGeom>
              <a:solidFill>
                <a:srgbClr val="ccffff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Mixing t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52160" y="4256640"/>
                <a:ext cx="2194560" cy="131616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2p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5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10</a:t>
                </a:r>
                <a:r>
                  <a:rPr b="1" lang="en-US" sz="2000" spc="-1" strike="noStrike" u="sng">
                    <a:solidFill>
                      <a:srgbClr val="0000ff"/>
                    </a:solidFill>
                    <a:uFillTx/>
                    <a:latin typeface="Verdana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A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s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0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10</a:t>
                </a:r>
                <a:r>
                  <a:rPr b="1" lang="en-US" sz="2000" spc="-1" strike="noStrike" u="sng">
                    <a:solidFill>
                      <a:srgbClr val="0000ff"/>
                    </a:solidFill>
                    <a:uFillTx/>
                    <a:latin typeface="Verdana"/>
                  </a:rPr>
                  <a:t>L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6949440" y="4686480"/>
              <a:ext cx="548280" cy="564120"/>
            </a:xfrm>
            <a:prstGeom prst="downArrow">
              <a:avLst>
                <a:gd name="adj1" fmla="val 50000"/>
                <a:gd name="adj2" fmla="val 25722"/>
              </a:avLst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49440" y="1323360"/>
              <a:ext cx="548280" cy="563760"/>
            </a:xfrm>
            <a:prstGeom prst="downArrow">
              <a:avLst>
                <a:gd name="adj1" fmla="val 50000"/>
                <a:gd name="adj2" fmla="val 25706"/>
              </a:avLst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1066680"/>
            <a:ext cx="9144000" cy="5295960"/>
            <a:chOff x="0" y="1066680"/>
            <a:chExt cx="9144000" cy="5295960"/>
          </a:xfrm>
        </p:grpSpPr>
        <p:sp>
          <p:nvSpPr>
            <p:cNvPr id="96" name=""/>
            <p:cNvSpPr/>
            <p:nvPr/>
          </p:nvSpPr>
          <p:spPr>
            <a:xfrm>
              <a:off x="0" y="1066680"/>
              <a:ext cx="9144000" cy="529596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520" y="1708560"/>
              <a:ext cx="2011680" cy="6418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1520" y="5078880"/>
              <a:ext cx="2011680" cy="6418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35040" y="1708560"/>
              <a:ext cx="2194560" cy="6418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2p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8</a:t>
              </a: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08960" y="1653120"/>
              <a:ext cx="2560320" cy="64188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641880"/>
                <a:gd name="textAreaBottom" fmla="*/ 642240 h 64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08960" y="5078880"/>
              <a:ext cx="2560320" cy="64188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641880"/>
                <a:gd name="textAreaBottom" fmla="*/ 642240 h 64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35040" y="5078880"/>
              <a:ext cx="2011320" cy="6418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2p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" y="2615040"/>
              <a:ext cx="2194560" cy="2246760"/>
            </a:xfrm>
            <a:custGeom>
              <a:avLst/>
              <a:gdLst>
                <a:gd name="textAreaLeft" fmla="*/ 0 w 2194560"/>
                <a:gd name="textAreaRight" fmla="*/ 2194920 w 2194560"/>
                <a:gd name="textAreaTop" fmla="*/ 561600 h 2246760"/>
                <a:gd name="textAreaBottom" fmla="*/ 1685160 h 224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Mixing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52160" y="2671200"/>
              <a:ext cx="2194560" cy="2246760"/>
            </a:xfrm>
            <a:custGeom>
              <a:avLst/>
              <a:gdLst>
                <a:gd name="textAreaLeft" fmla="*/ 0 w 2194560"/>
                <a:gd name="textAreaRight" fmla="*/ 2194920 w 2194560"/>
                <a:gd name="textAreaTop" fmla="*/ 561600 h 2246760"/>
                <a:gd name="textAreaBottom" fmla="*/ 1685160 h 224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Mixing t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PS (2 conf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9pssp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1676520"/>
            <a:ext cx="11430000" cy="43916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0    0   14    4    4    0    4  SPIN00000000 SHELL00300000 INTER3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8065.47800     0000000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5 2-15 2-10         00      9 00000000 0 8065.4790 .00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 5  S 2  D 9  D10  p 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 6  S 0  D 9  D10  p 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 5  S 2  D10  D 9  p 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 6  S 0  D10  D 9  p 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2p5 3d09      6     .0000   11.5072     .0002    7.7213    5.787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3.29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s0 3d9 p     6 1000.0000     .0942     .0002     .0003     .000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5 3d09  -s0 3d9 p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MS Mincho"/>
              </a:rPr>
              <a:t>1    .19665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.00005    .00005    .00005    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i2+ 2p5 3d10      2    0.0000   11.5092     .0000     .0000     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i2+ 3s0 3d10p     2 1000.0000     .0002     .0000     .0000     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5 3d10  -s0 3d10p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1    .19275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.00005    .00005    .00005    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99999999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9pssp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1676520"/>
            <a:ext cx="11430000" cy="12826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2p5 3d09      6     .0000   11.5072     .0002    7.7213    5.787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3.29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s0 3d9 p     6 1000.0000     .0942     .0002     .0003     .000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5 3d09  -s0 3d9 p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MS Mincho"/>
              </a:rPr>
              <a:t>1    .19665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.00005    .00005    .00005    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73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&lt;3s3s|1/r|2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p &gt;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9pssp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990720"/>
            <a:ext cx="9144000" cy="53060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CONF 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2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ef EG2 = 3.5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ef EF2 = 2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XMIX 2    2.2   -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   1 1 2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XMIX 2    1.8   -0.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   2 1 2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XHAM 2  1.0  0.7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4   1 1   1 2   2 1   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RAN  2    1 1    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IP 1.837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AU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GAMMA 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O 1      CI 1  DIP  0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EF EF2 = -4.5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OMEGA 20  ESTART -5.0  ESTEP 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NDAU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IADS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73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Verdana"/>
                <a:ea typeface="Times New Roman"/>
              </a:rPr>
              <a:t>&lt;3s3s|1/r|2p</a:t>
            </a: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cc00"/>
                </a:solidFill>
                <a:latin typeface="Verdana"/>
                <a:ea typeface="Times New Roman"/>
              </a:rPr>
              <a:t>p &gt;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9pssp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o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1143000"/>
            <a:ext cx="13487400" cy="39344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RANSFORMED MATRIX FOR TRIAD (    ^1+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11-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1-    ) (1*     13) DIM :  1 : 0 : 1 ACTOR MULTI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-5.18101  -5.18056  -4.66663  -4.66229  -4.66200  -4.66185   0.219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051  0.000010  0.000000  0.000000  0.000000  0.000000  0.0000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 0.21954   0.21972   0.35318   0.53119   0.53131   0.531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013  0.000000  0.000002  0.000001  0.000000  0.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otal intensity   0.00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RANSFORMED MATRIX FOR TRIAD (    ^1+     </a:t>
            </a:r>
            <a:r>
              <a:rPr b="1" lang="en-US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21-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1-    ) (1*     13) DIM :  1 : 0 : 1 ACTOR MULTI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-5.18101  -5.18056  -4.66663  -4.66229  -4.66200  -4.66185   0.219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196  0.000016  0.000002  0.000003  0.000000  0.000000  0.0002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 0.21954   0.21972   0.35318   0.53119   0.53131   0.531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026  0.000000  0.000011  0.000001  0.000000  0.000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otal intensity   0.000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5486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-5.0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-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72640" y="68580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OMEGA 20  ESTART -5.0  ESTEP 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762120" y="1447920"/>
            <a:ext cx="5105160" cy="4114800"/>
          </a:xfrm>
          <a:prstGeom prst="line">
            <a:avLst/>
          </a:prstGeom>
          <a:ln cap="sq" w="507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762120" y="3352320"/>
            <a:ext cx="5029200" cy="2590920"/>
          </a:xfrm>
          <a:prstGeom prst="line">
            <a:avLst/>
          </a:prstGeom>
          <a:ln cap="sq" w="507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914400" y="1828800"/>
            <a:ext cx="0" cy="990720"/>
          </a:xfrm>
          <a:prstGeom prst="line">
            <a:avLst/>
          </a:prstGeom>
          <a:ln cap="sq"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19320" y="1828800"/>
            <a:ext cx="0" cy="990720"/>
          </a:xfrm>
          <a:prstGeom prst="line">
            <a:avLst/>
          </a:prstGeom>
          <a:ln cap="sq"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9pssp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o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1143000"/>
            <a:ext cx="13487400" cy="39344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RANSFORMED MATRIX FOR TRIAD (    ^1+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11-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1-    ) (1*     13) DIM :  1 : 0 : 1 ACTOR MULTI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-5.18101  -5.18056  -4.66663  -4.66229  -4.66200  -4.66185   0.219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051  0.000010  0.000000  0.000000  0.000000  0.000000  0.0000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 0.21954   0.21972   0.35318   0.53119   0.53131   0.531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013  0.000000  0.000002  0.000001  0.000000  0.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otal intensity   0.00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RANSFORMED MATRIX FOR TRIAD (    ^1+     </a:t>
            </a:r>
            <a:r>
              <a:rPr b="1" lang="en-US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21-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1-    ) (1*     13) DIM :  1 : 0 : 1 ACTOR MULTI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-5.18101  -5.18056  -4.66663  -4.66229  -4.66200  -4.66185   0.219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196  0.000016  0.000002  0.000003  0.000000  0.000000  0.0002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 0.21954   0.21972   0.35318   0.53119   0.53131   0.531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026  0.000000  0.000011  0.000001  0.000000  0.000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otal intensity   0.000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5486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-5.0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-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72640" y="68580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OMEGA 20  ESTART -5.0  ESTEP 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762120" y="1447920"/>
            <a:ext cx="5105160" cy="4114800"/>
          </a:xfrm>
          <a:prstGeom prst="line">
            <a:avLst/>
          </a:prstGeom>
          <a:ln cap="sq" w="507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762120" y="3352320"/>
            <a:ext cx="5029200" cy="2590920"/>
          </a:xfrm>
          <a:prstGeom prst="line">
            <a:avLst/>
          </a:prstGeom>
          <a:ln cap="sq" w="507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77156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558720"/>
            <a:ext cx="9144000" cy="57564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77156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0" y="311040"/>
            <a:ext cx="9144000" cy="60804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p3s3p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62920" y="609480"/>
            <a:ext cx="6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00000" y="3505320"/>
            <a:ext cx="6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20600" y="7621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3276720"/>
            <a:ext cx="4419720" cy="2971800"/>
          </a:xfrm>
          <a:prstGeom prst="rect">
            <a:avLst/>
          </a:prstGeom>
          <a:solidFill>
            <a:srgbClr val="00ff00">
              <a:alpha val="50000"/>
            </a:srgbClr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0" y="536400"/>
            <a:ext cx="8839080" cy="58644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Comparison with experi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3080" y="5715000"/>
            <a:ext cx="2059920" cy="45972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finazzi99a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52680" y="2971800"/>
            <a:ext cx="2895840" cy="1981080"/>
          </a:xfrm>
          <a:prstGeom prst="rect">
            <a:avLst/>
          </a:prstGeom>
          <a:solidFill>
            <a:srgbClr val="00ff00">
              <a:alpha val="50000"/>
            </a:srgbClr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. Auger (2 conf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533520"/>
            <a:ext cx="9144000" cy="5829120"/>
            <a:chOff x="0" y="533520"/>
            <a:chExt cx="9144000" cy="5829120"/>
          </a:xfrm>
        </p:grpSpPr>
        <p:grpSp>
          <p:nvGrpSpPr>
            <p:cNvPr id="108" name=""/>
            <p:cNvGrpSpPr/>
            <p:nvPr/>
          </p:nvGrpSpPr>
          <p:grpSpPr>
            <a:xfrm>
              <a:off x="0" y="533520"/>
              <a:ext cx="9144000" cy="5829120"/>
              <a:chOff x="0" y="533520"/>
              <a:chExt cx="9144000" cy="58291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533520"/>
                <a:ext cx="9144000" cy="5829120"/>
              </a:xfrm>
              <a:prstGeom prst="rect">
                <a:avLst/>
              </a:prstGeom>
              <a:solidFill>
                <a:srgbClr val="eaeaea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1520" y="1323360"/>
                <a:ext cx="2011320" cy="45108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1520" y="4933440"/>
                <a:ext cx="2011320" cy="45108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9</a:t>
                </a:r>
                <a:r>
                  <a:rPr b="1" lang="en-US" sz="2000" spc="-1" strike="noStrike" u="sng">
                    <a:solidFill>
                      <a:srgbClr val="0000ff"/>
                    </a:solidFill>
                    <a:uFillTx/>
                    <a:latin typeface="Verdana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95880" y="909360"/>
                <a:ext cx="2194560" cy="131616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2p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5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A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s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0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9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91840" y="1323360"/>
                <a:ext cx="2559960" cy="451080"/>
              </a:xfrm>
              <a:custGeom>
                <a:avLst/>
                <a:gdLst>
                  <a:gd name="textAreaLeft" fmla="*/ 0 w 2559960"/>
                  <a:gd name="textAreaRight" fmla="*/ 2560320 w 255996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ffcc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dipo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08960" y="4933440"/>
                <a:ext cx="2559960" cy="451080"/>
              </a:xfrm>
              <a:custGeom>
                <a:avLst/>
                <a:gdLst>
                  <a:gd name="textAreaLeft" fmla="*/ 0 w 2559960"/>
                  <a:gd name="textAreaRight" fmla="*/ 2560320 w 255996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ffcc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dipo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09480" y="1887120"/>
                <a:ext cx="2194560" cy="2820600"/>
              </a:xfrm>
              <a:custGeom>
                <a:avLst/>
                <a:gdLst>
                  <a:gd name="textAreaLeft" fmla="*/ 0 w 2194560"/>
                  <a:gd name="textAreaRight" fmla="*/ 2194920 w 2194560"/>
                  <a:gd name="textAreaTop" fmla="*/ 704880 h 2820600"/>
                  <a:gd name="textAreaBottom" fmla="*/ 2115720 h 282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8100" y="16200"/>
                    </a:lnTo>
                    <a:lnTo>
                      <a:pt x="8100" y="18900"/>
                    </a:lnTo>
                    <a:lnTo>
                      <a:pt x="5500" y="18900"/>
                    </a:lnTo>
                    <a:lnTo>
                      <a:pt x="10800" y="21600"/>
                    </a:lnTo>
                    <a:lnTo>
                      <a:pt x="16100" y="18900"/>
                    </a:lnTo>
                    <a:lnTo>
                      <a:pt x="13500" y="18900"/>
                    </a:lnTo>
                    <a:lnTo>
                      <a:pt x="13500" y="16200"/>
                    </a:lnTo>
                    <a:lnTo>
                      <a:pt x="21600" y="16200"/>
                    </a:lnTo>
                    <a:lnTo>
                      <a:pt x="21600" y="5400"/>
                    </a:lnTo>
                    <a:lnTo>
                      <a:pt x="13500" y="5400"/>
                    </a:lnTo>
                    <a:lnTo>
                      <a:pt x="13500" y="2700"/>
                    </a:lnTo>
                    <a:lnTo>
                      <a:pt x="16100" y="2700"/>
                    </a:lnTo>
                    <a:lnTo>
                      <a:pt x="10800" y="0"/>
                    </a:lnTo>
                    <a:lnTo>
                      <a:pt x="5500" y="2700"/>
                    </a:lnTo>
                    <a:lnTo>
                      <a:pt x="8100" y="2700"/>
                    </a:lnTo>
                    <a:lnTo>
                      <a:pt x="8100" y="5400"/>
                    </a:lnTo>
                    <a:close/>
                  </a:path>
                </a:pathLst>
              </a:custGeom>
              <a:solidFill>
                <a:srgbClr val="ccffff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Mixing 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852160" y="2451240"/>
                <a:ext cx="2194560" cy="1579320"/>
              </a:xfrm>
              <a:custGeom>
                <a:avLst/>
                <a:gdLst>
                  <a:gd name="textAreaLeft" fmla="*/ 0 w 2194560"/>
                  <a:gd name="textAreaRight" fmla="*/ 2194920 w 2194560"/>
                  <a:gd name="textAreaTop" fmla="*/ 394920 h 1579320"/>
                  <a:gd name="textAreaBottom" fmla="*/ 1184760 h 157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8100" y="16200"/>
                    </a:lnTo>
                    <a:lnTo>
                      <a:pt x="8100" y="18900"/>
                    </a:lnTo>
                    <a:lnTo>
                      <a:pt x="5500" y="18900"/>
                    </a:lnTo>
                    <a:lnTo>
                      <a:pt x="10800" y="21600"/>
                    </a:lnTo>
                    <a:lnTo>
                      <a:pt x="16100" y="18900"/>
                    </a:lnTo>
                    <a:lnTo>
                      <a:pt x="13500" y="18900"/>
                    </a:lnTo>
                    <a:lnTo>
                      <a:pt x="13500" y="16200"/>
                    </a:lnTo>
                    <a:lnTo>
                      <a:pt x="21600" y="16200"/>
                    </a:lnTo>
                    <a:lnTo>
                      <a:pt x="21600" y="5400"/>
                    </a:lnTo>
                    <a:lnTo>
                      <a:pt x="13500" y="5400"/>
                    </a:lnTo>
                    <a:lnTo>
                      <a:pt x="13500" y="2700"/>
                    </a:lnTo>
                    <a:lnTo>
                      <a:pt x="16100" y="2700"/>
                    </a:lnTo>
                    <a:lnTo>
                      <a:pt x="10800" y="0"/>
                    </a:lnTo>
                    <a:lnTo>
                      <a:pt x="5500" y="2700"/>
                    </a:lnTo>
                    <a:lnTo>
                      <a:pt x="8100" y="2700"/>
                    </a:lnTo>
                    <a:lnTo>
                      <a:pt x="8100" y="5400"/>
                    </a:lnTo>
                    <a:close/>
                  </a:path>
                </a:pathLst>
              </a:custGeom>
              <a:solidFill>
                <a:srgbClr val="ccffff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Mixing t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52160" y="4256640"/>
                <a:ext cx="2194560" cy="131616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2p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5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10</a:t>
                </a:r>
                <a:r>
                  <a:rPr b="1" lang="en-US" sz="2000" spc="-1" strike="noStrike" u="sng">
                    <a:solidFill>
                      <a:srgbClr val="0000ff"/>
                    </a:solidFill>
                    <a:uFillTx/>
                    <a:latin typeface="Verdana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A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s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0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10</a:t>
                </a:r>
                <a:r>
                  <a:rPr b="1" lang="en-US" sz="2000" spc="-1" strike="noStrike" u="sng">
                    <a:solidFill>
                      <a:srgbClr val="0000ff"/>
                    </a:solidFill>
                    <a:uFillTx/>
                    <a:latin typeface="Verdana"/>
                  </a:rPr>
                  <a:t>L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6949440" y="4686480"/>
              <a:ext cx="548280" cy="564120"/>
            </a:xfrm>
            <a:prstGeom prst="downArrow">
              <a:avLst>
                <a:gd name="adj1" fmla="val 50000"/>
                <a:gd name="adj2" fmla="val 25722"/>
              </a:avLst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9440" y="1323360"/>
              <a:ext cx="548280" cy="563760"/>
            </a:xfrm>
            <a:prstGeom prst="downArrow">
              <a:avLst>
                <a:gd name="adj1" fmla="val 50000"/>
                <a:gd name="adj2" fmla="val 25706"/>
              </a:avLst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als9ni2p3s3p.r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1676520"/>
            <a:ext cx="11430000" cy="17398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22 -9    2   10  1.0    5.E-08    1.E-11-2   130   1.0  0.65 </a:t>
            </a: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45.0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0.50 0.0  0.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28     Ni2+ 3d8               3D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8     Ni2+ 2p5 3d09          2P05 3D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8     Ni2+ 3s1 3p5 3d9 s     3S01 3P05 3D0999S01                        45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8     Ni2+ 3s1 3p5 3d9 d     3S01 3P05 3D0999D01                        45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1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alculating Auger matrix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733920"/>
            <a:ext cx="914400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&lt;3s3p|1/r|2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s &gt;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&lt;3s3p|1/r|2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d 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&lt;3s3p|1/r|2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g &gt; ??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  <a:ea typeface="Times New Roman"/>
              </a:rPr>
              <a:t>als9ni2p3s3p.r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-2286000" y="1676520"/>
            <a:ext cx="11430000" cy="17398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22 -9    2   10  1.0    5.E-08    1.E-11-2   130   1.0  0.65 </a:t>
            </a: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45.0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0.50 0.0  0.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28     Ni2+ 3d8               3D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8     Ni2+ 2p5 3d09          2P05 3D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8     Ni2+ 3s1 3p5 3d9 s     3S01 3P05 3D0999S01                        45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8     Ni2+ 3s1 3p5 3d9 d     3S01 3P05 3D0999D01                        45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1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alculating Auger matrix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733920"/>
            <a:ext cx="914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&lt;3s3p|1/r|2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s &gt;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Kinetic energy in Rydbe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095880" y="3047760"/>
            <a:ext cx="2057400" cy="2514600"/>
          </a:xfrm>
          <a:prstGeom prst="line">
            <a:avLst/>
          </a:prstGeom>
          <a:ln cap="sq" w="633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019920" y="2133360"/>
            <a:ext cx="457200" cy="3352680"/>
          </a:xfrm>
          <a:prstGeom prst="line">
            <a:avLst/>
          </a:prstGeom>
          <a:ln cap="sq" w="633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  <a:ea typeface="Times New Roman"/>
              </a:rPr>
              <a:t>als9ni2p3s3p.rc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1676520"/>
            <a:ext cx="11430000" cy="44830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d8           4    0.0000   12.2341    7.5981    0.0832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2p5 3d09      6  860.1660   11.5072    0.1022    7.7213    5.787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3.29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s1 3p5 3d9s 11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-9500.0000    1.4042    0.0942   14.3893   21.735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13.5824    0.0004   17.7844   10.8434    0.0004    0.0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s1 3p5 3d9d 18-8500.0000    1.4042    0.0942    0.0002   14.3893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0.0003    0.0003    0.0003   21.7354   13.5824    0.0004   17.78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0.8434    0.0004    0.0004    0.0004    0.0004    0.0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5 3d09  -s1 3p5 3d2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0.19415   0.23675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0.00005   0.00005   0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5 3d09  -s1 3p5 3d2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-0.01005   0.00615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0.00005   0.00005   0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s1 3p5 3d-s1 3p5 3d4   0.00005   0.00005   0.00005   0.00005   0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d8            Ni2+ 2p5 3d09    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-0.18503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( 2P//R1// 3D) 1.000HR  36-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d8            Ni2+ 3s1 3p5 3d9 s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0.00000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(   //R1//   ) 0.000HR   0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d8            Ni2+ 3s1 3p5 3d9 d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0.00000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(   //R1//   ) 0.000HR   0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1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43434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alculating Auger matrix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rcRect l="11458" t="0" r="0" b="0"/>
          <a:stretch/>
        </p:blipFill>
        <p:spPr>
          <a:xfrm>
            <a:off x="0" y="685800"/>
            <a:ext cx="4692600" cy="5553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sonant vs. non-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267080" y="990720"/>
            <a:ext cx="4876920" cy="46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p3s3s-Res. A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1/r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p3s3s-non-res. A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&lt;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1/r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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764240" cy="58197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sonant vs. non-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78136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7315200" cy="23731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905120" y="1143000"/>
            <a:ext cx="57909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p3d3d-Res. A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1/r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sonant photoe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sonant Photoe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708440" cy="64008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5356080" y="5486400"/>
            <a:ext cx="2789640" cy="45972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martensson99a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sonant Photoemission on Ni me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566640"/>
            <a:ext cx="6095880" cy="58248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P-CD Resonant Photoe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80320" y="5638680"/>
            <a:ext cx="1857240" cy="45972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tjeng97a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rcRect l="0" t="0" r="8204" b="0"/>
          <a:stretch/>
        </p:blipFill>
        <p:spPr>
          <a:xfrm>
            <a:off x="0" y="990720"/>
            <a:ext cx="9144000" cy="26953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P-CD Resonant Photoe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320" y="3505320"/>
            <a:ext cx="1857240" cy="45972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tjeng97a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800" y="4114800"/>
            <a:ext cx="86076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= 14, A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= 6, B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= 1, B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=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MCD = A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- A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+ B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- B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/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= 6/24 = 1/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PCD = A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- A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- B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+ B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/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= 10/24 =5/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and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371600"/>
            <a:ext cx="9144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XPS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ipole transition (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&lt;3d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r |2p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3d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Auger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Coulomb operator (1/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&lt;3p3p |1/r |2p </a:t>
            </a:r>
            <a:r>
              <a:rPr b="0" lang="en-US" sz="3600" spc="-1" strike="noStrike">
                <a:solidFill>
                  <a:srgbClr val="00cc00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 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770040"/>
            <a:ext cx="9144000" cy="6087960"/>
            <a:chOff x="0" y="770040"/>
            <a:chExt cx="9144000" cy="6087960"/>
          </a:xfrm>
        </p:grpSpPr>
        <p:sp>
          <p:nvSpPr>
            <p:cNvPr id="123" name=""/>
            <p:cNvSpPr/>
            <p:nvPr/>
          </p:nvSpPr>
          <p:spPr>
            <a:xfrm>
              <a:off x="0" y="770040"/>
              <a:ext cx="9144000" cy="608796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0840" y="1342800"/>
              <a:ext cx="1985040" cy="4294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0840" y="3598920"/>
              <a:ext cx="1985040" cy="4294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54520" y="1342800"/>
              <a:ext cx="2165400" cy="4294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2p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8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66960" y="1305720"/>
              <a:ext cx="2526480" cy="429480"/>
            </a:xfrm>
            <a:custGeom>
              <a:avLst/>
              <a:gdLst>
                <a:gd name="textAreaLeft" fmla="*/ 0 w 2526480"/>
                <a:gd name="textAreaRight" fmla="*/ 2526840 w 252648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66960" y="3598920"/>
              <a:ext cx="2526480" cy="429480"/>
            </a:xfrm>
            <a:custGeom>
              <a:avLst/>
              <a:gdLst>
                <a:gd name="textAreaLeft" fmla="*/ 0 w 2526480"/>
                <a:gd name="textAreaRight" fmla="*/ 2526840 w 252648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54520" y="3598920"/>
              <a:ext cx="1985400" cy="4294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2p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0720" y="2059200"/>
              <a:ext cx="2165400" cy="150372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75840 h 1503720"/>
                <a:gd name="textAreaBottom" fmla="*/ 1127880 h 150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ixing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74160" y="1987560"/>
              <a:ext cx="2165400" cy="150372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75840 h 1503720"/>
                <a:gd name="textAreaBottom" fmla="*/ 1127880 h 150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ixing t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720" y="4208040"/>
              <a:ext cx="2165400" cy="150372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75840 h 1503720"/>
                <a:gd name="textAreaBottom" fmla="*/ 1127880 h 150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ixing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94760" y="4315320"/>
              <a:ext cx="2165400" cy="150372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75840 h 1503720"/>
                <a:gd name="textAreaBottom" fmla="*/ 1127880 h 150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ixing t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80" y="5927040"/>
              <a:ext cx="1985040" cy="4294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10</a:t>
              </a: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87560" y="5927040"/>
              <a:ext cx="2526480" cy="429480"/>
            </a:xfrm>
            <a:custGeom>
              <a:avLst/>
              <a:gdLst>
                <a:gd name="textAreaLeft" fmla="*/ 0 w 2526480"/>
                <a:gd name="textAreaRight" fmla="*/ 2526840 w 252648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75120" y="5927040"/>
              <a:ext cx="1985040" cy="4294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2p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10</a:t>
              </a: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2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PS (3 conf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305560" cy="5825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8ni2xps3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676520"/>
            <a:ext cx="11430000" cy="22885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90999090            8065.47900     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         14    0    0    1    1 INTER0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3 1 13 1 10         00      9 00000000 0 8065.4790 .00       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08  P06  </a:t>
            </a: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08  P05  </a:t>
            </a: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3+   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3+    2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-99999999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57200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D08  P05  D01  = 3d</a:t>
            </a:r>
            <a:r>
              <a:rPr b="1" lang="en-GB" sz="2400" spc="-1" strike="noStrike" baseline="30000">
                <a:solidFill>
                  <a:srgbClr val="0000ff"/>
                </a:solidFill>
                <a:latin typeface="Verdana"/>
                <a:ea typeface="Arial"/>
              </a:rPr>
              <a:t>8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 2p</a:t>
            </a:r>
            <a:r>
              <a:rPr b="1" lang="en-GB" sz="2400" spc="-1" strike="noStrike" baseline="30000">
                <a:solidFill>
                  <a:srgbClr val="0000ff"/>
                </a:solidFill>
                <a:latin typeface="Verdana"/>
                <a:ea typeface="Arial"/>
              </a:rPr>
              <a:t>5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 baseline="-25000">
                <a:solidFill>
                  <a:srgbClr val="0000ff"/>
                </a:solidFill>
                <a:latin typeface="Verdana"/>
                <a:ea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8ni2xps3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676520"/>
            <a:ext cx="11430000" cy="44830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900     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         14    0    4    0    4 SHELL30000000 SPIN30000000 INTE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3 1 13 1 10         00      9 00000000 0 8065.4790 .00       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08  P06  D1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09  P06  D09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3+P6D8L          4    0.0000   12.2341    7.5981    0.0832    0.0000HR9999999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3+P6D9L2         2    0.0000    0.0742    0.0000    0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900     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         14    0    4    0    4 SHELL30000000 SPIN30000000 INTE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3 1 13 1 10         00      9 00000000 0 8065.4790 .00      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09  P06  D0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10  P06  D0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3+P6D9L2         2    0.0000    0.0742    0.0000    0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3+P6D9L2         2    0.0000    0.0002    0.0000    0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16:21:10Z</dcterms:created>
  <dc:creator>F.M.F. de Groot</dc:creator>
  <dc:description/>
  <dc:language>en-US</dc:language>
  <cp:lastModifiedBy>Inorganic Chemistry</cp:lastModifiedBy>
  <cp:lastPrinted>2000-09-25T15:41:05Z</cp:lastPrinted>
  <dcterms:modified xsi:type="dcterms:W3CDTF">2007-02-14T13:49:15Z</dcterms:modified>
  <cp:revision>300</cp:revision>
  <dc:subject/>
  <dc:title>Company Overview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vsf1.phys.rug.nl/~degroot/</vt:lpwstr>
  </property>
  <property fmtid="{D5CDD505-2E9C-101B-9397-08002B2CF9AE}" pid="9" name="LinkColor">
    <vt:r8>16711782</vt:r8>
  </property>
  <property fmtid="{D5CDD505-2E9C-101B-9397-08002B2CF9AE}" pid="10" name="MailAddress">
    <vt:lpwstr>F.M.F.deGroot@chem.uu.nl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255</vt:r8>
  </property>
</Properties>
</file>